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207-BC37-407D-BFAD-68A03C16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AD1-5EAA-4350-875E-170A73EC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2E7-6B29-4B83-A8A9-B893525E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C0D-BB08-47DD-9CB0-D2D7B24F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E69-E487-490B-A05C-FC39E98F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6876-2D26-49AC-BD17-E3786ADD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8EB2-11C8-4153-83F5-A86C794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E473-1241-4C39-B87C-F0BF49C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F6A-CC8D-405C-A0F3-53A52256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F2C0-0717-439D-B23C-A8C3084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EA12-0C3D-4E0C-BA24-556B690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1F4-1DF1-4B92-A3C8-1DC8F89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AF5-9B27-47A3-82A5-E3FA72D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C6B-28D1-49D8-B6C3-6B0EFAA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0BAB-1853-49C5-A18B-85615E71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6BF7-CECD-46D7-AC0D-D2A27328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F75-61E9-427D-8A3C-DD363E34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907-41A3-4BEE-87C6-823ECC95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4B0-9EF5-44B1-8C21-86A9357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4C5-2B1F-403D-B18B-478100F2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E04-DD1E-4EDA-9653-27B3F138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3A3-0456-4D42-8E04-9E0465CA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D86-122F-463F-A374-4DD79044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62C-3EEA-44EA-B89B-525E57D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44ED-2358-46F1-A663-3C798169F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C230-518E-47EF-925E-C5B6677D6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lobal History &amp; Geography Review – Unit 1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ncient Civilizations, Religions &amp; Early Empir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8191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peoples &amp; river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al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e &amp; fall of Great Emp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e and spread of belief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reece (1750 BC – 133 BC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in mountainous region prevented large empire and led to many city-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ultural diffusion due to sea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-states (polis) – two most powerful ones were Athens &amp; Spa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ns – birthplace of direct democ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rta - militar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cient Gree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Picture 4" descr="http://www.shunya.net/Text/Herodotus/images/GreekPoliticalMap.jpg"/>
          <p:cNvPicPr/>
          <p:nvPr/>
        </p:nvPicPr>
        <p:blipFill>
          <a:blip r:embed="rId1"/>
          <a:stretch/>
        </p:blipFill>
        <p:spPr>
          <a:xfrm>
            <a:off x="1828800" y="1828800"/>
            <a:ext cx="60228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exander the Great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father conquered Greece in the 300s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ander build a huge empire that included the Nile Valley, Persia, and parts of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Greek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lenistic Culture – blended Greek &amp; Persian, India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ultural contributions of Greek &amp; Hellenistic civiliation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– Socrates, Plato, Aristo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– Comedies &amp; tragedies, poems (Homer), history (Herodo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 &amp; Architecture – Humans portrayed in perfect form, fantastic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&amp; Math – Archimedes, Hippocrates, Pythagoras, Euc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ome (509 BC – 476 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on Italian penins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blic – officials chosen by the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cians (rich) &amp; plebeians (farmer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huge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elve Tables of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esque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roads &amp; t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disciplined army, civil serv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x Romana – long period of peace &amp;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overrun by foreign inva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43000" y="1600200"/>
          <a:ext cx="7620120" cy="4224240"/>
        </p:xfrm>
        <a:graphic>
          <a:graphicData uri="http://schemas.openxmlformats.org/drawingml/2006/table">
            <a:tbl>
              <a:tblPr/>
              <a:tblGrid>
                <a:gridCol w="2286000"/>
                <a:gridCol w="2793960"/>
                <a:gridCol w="2540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of the earliest any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ica, 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ry living &amp; non living thing in nature has a spir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erence for ances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ndu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 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incar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ma &amp; Dha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h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43000" y="1600200"/>
          <a:ext cx="7620120" cy="3565440"/>
        </p:xfrm>
        <a:graphic>
          <a:graphicData uri="http://schemas.openxmlformats.org/drawingml/2006/table">
            <a:tbl>
              <a:tblPr/>
              <a:tblGrid>
                <a:gridCol w="2209680"/>
                <a:gridCol w="2743200"/>
                <a:gridCol w="2667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dh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 Noble Tru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ghtfold P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da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BC – Hebr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braha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he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ommand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600200"/>
          <a:ext cx="7620120" cy="3932280"/>
        </p:xfrm>
        <a:graphic>
          <a:graphicData uri="http://schemas.openxmlformats.org/drawingml/2006/table">
            <a:tbl>
              <a:tblPr/>
              <a:tblGrid>
                <a:gridCol w="2133720"/>
                <a:gridCol w="2946240"/>
                <a:gridCol w="2540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istian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AD – Je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sus is God the Son, the Messia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he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l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 AD – Mohammed in Ara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he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 Pil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jor Belief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1600200"/>
          <a:ext cx="7620120" cy="4516560"/>
        </p:xfrm>
        <a:graphic>
          <a:graphicData uri="http://schemas.openxmlformats.org/drawingml/2006/table">
            <a:tbl>
              <a:tblPr/>
              <a:tblGrid>
                <a:gridCol w="2133720"/>
                <a:gridCol w="2946240"/>
                <a:gridCol w="2540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 &amp; Where/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conce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ucian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ucius (551 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nal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ey relationshi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ryone has du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 is key to suc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o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oz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ace &amp; well being depend on harmony between yin and ya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Gupta of India (320-550 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much of the Indian subconti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 of peace and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by 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d Hindu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archal families, arranged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ed due to weak rulers and foreign inv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01916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Gupta Empire"/>
          <p:cNvPicPr/>
          <p:nvPr/>
        </p:nvPicPr>
        <p:blipFill>
          <a:blip r:embed="rId1"/>
          <a:stretch/>
        </p:blipFill>
        <p:spPr>
          <a:xfrm>
            <a:off x="4495680" y="2057400"/>
            <a:ext cx="41911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arly Peoples &amp; River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people w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unters and gather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meant they liv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ma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olithic Revolution (10,000 BC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ople made permanent settlements, which grew into civil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early civilizations settled along river vall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Gupta of India (320-550 AD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&amp; decim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bic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al remedies, surgery, vaccines against small p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utiful te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les, folk 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1916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Gupta Empire"/>
          <p:cNvPicPr/>
          <p:nvPr/>
        </p:nvPicPr>
        <p:blipFill>
          <a:blip r:embed="rId1"/>
          <a:stretch/>
        </p:blipFill>
        <p:spPr>
          <a:xfrm>
            <a:off x="4495680" y="2057400"/>
            <a:ext cx="419112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http://www.mnsu.edu/emuseum/prehistory/china/images/songmap.gif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618-1279 A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ng &amp; Song Dynasties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d efficient governments where trade flourished and great advances in art, literature, and architecture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www.mnsu.edu/emuseum/prehistory/china/images/songmap.gif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618-1279 A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ng &amp; Song Dynasties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 corruption led to the decline of the Tang dynasty in 907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sed the civil service system for govt. offi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 social structure of gentry, peasantry,        merch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mnsu.edu/emuseum/prehistory/china/images/songmap.gif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2746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618-1279 A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ang &amp; Song Dynasties in Chi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trade expanded to India, Persia, Middle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ed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 included calligraphy, pagoda temple design, porce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Roman empire was divided in the late 200s by Emperor Diocletian, the Emperor Constantine moved the capital to the site of the Greek city of Byzan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http://images.google.com/images?q=tbn:aSSWtmY0LHsJ:www.steveaddison.net/wp-content/Emperor%2520Constantine.jpg"/>
          <p:cNvPicPr/>
          <p:nvPr/>
        </p:nvPicPr>
        <p:blipFill>
          <a:blip r:embed="rId1"/>
          <a:stretch/>
        </p:blipFill>
        <p:spPr>
          <a:xfrm>
            <a:off x="5433840" y="20574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527 - 1453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1" name="Picture 6" descr="Map of Byzantine Empire."/>
          <p:cNvPicPr/>
          <p:nvPr/>
        </p:nvPicPr>
        <p:blipFill>
          <a:blip r:embed="rId1"/>
          <a:stretch/>
        </p:blipFill>
        <p:spPr>
          <a:xfrm>
            <a:off x="1371600" y="1676520"/>
            <a:ext cx="7064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blend of Greek, Roman, and Christian infl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ened by Crusaders, sacked by Ottomans in 14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ib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ED GRECO-ROM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nian’s Code of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d Russia – written language, religion, autocratic government, art &amp;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i-cias.com/e.o/ill/justinian1_01.jpg"/>
          <p:cNvPicPr/>
          <p:nvPr/>
        </p:nvPicPr>
        <p:blipFill>
          <a:blip r:embed="rId1"/>
          <a:stretch/>
        </p:blipFill>
        <p:spPr>
          <a:xfrm>
            <a:off x="5791320" y="1676520"/>
            <a:ext cx="2628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200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: Church of Hagia Sop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 – Mosa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: Orthodox Christian Church – Great Schism in 10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9" descr="EXTERIOR OF HAGIA SOPHIA"/>
          <p:cNvPicPr/>
          <p:nvPr/>
        </p:nvPicPr>
        <p:blipFill>
          <a:blip r:embed="rId1"/>
          <a:stretch/>
        </p:blipFill>
        <p:spPr>
          <a:xfrm>
            <a:off x="4038480" y="2133720"/>
            <a:ext cx="47894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Mohammed’s death, Islam spread to areas in Europe, Africa, and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lden 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ring the 700s and 800s based on trade, and achievements in the arts &amp; sc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http://communities.madison.com/mmdc/pages/images/3365-JAMEEL.gif"/>
          <p:cNvPicPr/>
          <p:nvPr/>
        </p:nvPicPr>
        <p:blipFill>
          <a:blip r:embed="rId1"/>
          <a:stretch/>
        </p:blipFill>
        <p:spPr>
          <a:xfrm>
            <a:off x="4800600" y="2286000"/>
            <a:ext cx="2835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spread of Isl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2" name="Picture 4" descr="http://www.thewhitefathers.org.uk/340ismap.gif"/>
          <p:cNvPicPr/>
          <p:nvPr/>
        </p:nvPicPr>
        <p:blipFill>
          <a:blip r:embed="rId1"/>
          <a:stretch/>
        </p:blipFill>
        <p:spPr>
          <a:xfrm>
            <a:off x="838080" y="1752480"/>
            <a:ext cx="766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arly Peoples &amp; River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 of civi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d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s, bridges, public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 &amp;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of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Program Files\Common Files\Microsoft Shared\Clipart\cagcat50\bl00381_.wmf"/>
          <p:cNvPicPr/>
          <p:nvPr/>
        </p:nvPicPr>
        <p:blipFill>
          <a:blip r:embed="rId1"/>
          <a:stretch/>
        </p:blipFill>
        <p:spPr>
          <a:xfrm>
            <a:off x="5105520" y="2209680"/>
            <a:ext cx="352080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lam arose in the Arabian penin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Muslim success: Arabs were strong fighters, enemies were weak (Byzantine &amp; Persian empires), they were united in the faith, and rulers treated the conquered peoples fai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http://www.rowan.edu/history/BLAKE/Image6.gif"/>
          <p:cNvPicPr/>
          <p:nvPr/>
        </p:nvPicPr>
        <p:blipFill>
          <a:blip r:embed="rId1"/>
          <a:stretch/>
        </p:blipFill>
        <p:spPr>
          <a:xfrm>
            <a:off x="5257800" y="1981080"/>
            <a:ext cx="28576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 Age contribu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ed Greco-Roman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i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ques and pa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– poetry, tal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ousand and One N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s –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http://www.rowan.edu/history/BLAKE/Image6.gif"/>
          <p:cNvPicPr/>
          <p:nvPr/>
        </p:nvPicPr>
        <p:blipFill>
          <a:blip r:embed="rId1"/>
          <a:stretch/>
        </p:blipFill>
        <p:spPr>
          <a:xfrm>
            <a:off x="5486400" y="2209680"/>
            <a:ext cx="28576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arly Empires: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slamic Civiliza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usaders from Western Europe came into contact with Muslims in the Holy Lands, which encouraged cultural diffusion &amp; lasting feelings of distrust between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http://www.genealogysource.com/crusades.jpg"/>
          <p:cNvPicPr/>
          <p:nvPr/>
        </p:nvPicPr>
        <p:blipFill>
          <a:blip r:embed="rId1"/>
          <a:stretch/>
        </p:blipFill>
        <p:spPr>
          <a:xfrm>
            <a:off x="4821120" y="2057400"/>
            <a:ext cx="3411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http://vlib.iue.it/history/med/Medieval.gif"/>
          <p:cNvPicPr/>
          <p:nvPr/>
        </p:nvPicPr>
        <p:blipFill>
          <a:blip r:embed="rId1"/>
          <a:stretch/>
        </p:blipFill>
        <p:spPr>
          <a:xfrm>
            <a:off x="2743200" y="304920"/>
            <a:ext cx="4035600" cy="2239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Michaelmas"/>
              </a:rPr>
              <a:t>500-1400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lapse of Rome in 476 left Western Europe with no central government and basically in cha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udalism and manorialism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ristian Church was the one institution that remained intact &amp; it played a humongous role in people’s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dieval Europ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magne (742-814), king of the Franks, built an empire that included France, Germany, and part of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Leo III crowned Charlemagne King of the Romans – a popular f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magne encouraged education &amp; helped spread Christia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http://www.adam-carr.net/charlemagne.jpg"/>
          <p:cNvPicPr/>
          <p:nvPr/>
        </p:nvPicPr>
        <p:blipFill>
          <a:blip r:embed="rId1"/>
          <a:stretch/>
        </p:blipFill>
        <p:spPr>
          <a:xfrm>
            <a:off x="5486400" y="1066680"/>
            <a:ext cx="2982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eud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9" name="Picture 5" descr="http://www.willamette.edu/~sbasu/poli212/Rousseau1_files/image006.gif"/>
          <p:cNvPicPr/>
          <p:nvPr/>
        </p:nvPicPr>
        <p:blipFill>
          <a:blip r:embed="rId1"/>
          <a:stretch/>
        </p:blipFill>
        <p:spPr>
          <a:xfrm>
            <a:off x="3886200" y="304920"/>
            <a:ext cx="48639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juk Turks (Muslims) invaded the Byzantine Empire and conquered Palestine in the 10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96 – Pope Urban II called on Christians to recover the Holy Lands and expel the Musl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http://www.kena.org/hirams/Pictures/Historical/Maps/Crusades.jpg"/>
          <p:cNvPicPr/>
          <p:nvPr/>
        </p:nvPicPr>
        <p:blipFill>
          <a:blip r:embed="rId1"/>
          <a:stretch/>
        </p:blipFill>
        <p:spPr>
          <a:xfrm>
            <a:off x="3886200" y="2311560"/>
            <a:ext cx="4819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Urban II also hoped to win favor with Eastern Orthodox Christians so they would rejoin the Roman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aders were looking for adven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or were looking to escape the hardships of feudalism and constant figh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http://www.adambennington.com/military_orders/images/battle.jpg"/>
          <p:cNvPicPr/>
          <p:nvPr/>
        </p:nvPicPr>
        <p:blipFill>
          <a:blip r:embed="rId1"/>
          <a:stretch/>
        </p:blipFill>
        <p:spPr>
          <a:xfrm>
            <a:off x="4800600" y="1981080"/>
            <a:ext cx="36687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irst of four Crusades in 1099 was successful in regaining control of Jerusalem. Christians slaughtered Muslims and Jews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http://members.aol.com/KCC1TIM/crusades.jpg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www.theislamproject.org/images/crusades_final.jpg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ig names of early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gypti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along the fertile Nile 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the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aoh considered a god/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social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contributions, inclu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ogly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e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http://images.google.com/images?q=tbn:mgMAYXF7gW8J:www.artlex.com/ArtLex/m/images/mask_tut.lg.jpg"/>
          <p:cNvPicPr/>
          <p:nvPr/>
        </p:nvPicPr>
        <p:blipFill>
          <a:blip r:embed="rId1"/>
          <a:stretch/>
        </p:blipFill>
        <p:spPr>
          <a:xfrm>
            <a:off x="6858000" y="3429000"/>
            <a:ext cx="1703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Crusades became more aimed at personal enrichment, not religious z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adin united Muslims and regained Jerusalem in late 1100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urth Crusade – looted Byzan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http://www.unf.edu/classes/crusades/image/crusaderstakingjerusalem.jpg"/>
          <p:cNvPicPr/>
          <p:nvPr/>
        </p:nvPicPr>
        <p:blipFill>
          <a:blip r:embed="rId1"/>
          <a:stretch/>
        </p:blipFill>
        <p:spPr>
          <a:xfrm>
            <a:off x="5105520" y="1676520"/>
            <a:ext cx="3133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21304"/>
                </a:solidFill>
                <a:latin typeface="Times New Roman"/>
              </a:rPr>
              <a:t>A little known crusa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Picture 6" descr="http://gednet.com/blog/media/1/20040309-Ice%20Crusades.jpg"/>
          <p:cNvPicPr/>
          <p:nvPr/>
        </p:nvPicPr>
        <p:blipFill>
          <a:blip r:embed="rId1"/>
          <a:stretch/>
        </p:blipFill>
        <p:spPr>
          <a:xfrm>
            <a:off x="2971800" y="1905120"/>
            <a:ext cx="3349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mpact of the Crus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trade between east and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wakened Europeans to lost knowledge preserved by Muslims and Byzantine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power of monarchs &amp; weakened feud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ing distrust between Muslims and Christ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ked the Age of Exploration &amp; Rena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http://www.a2armory.com/images/1-med-shields/crusades-sca.jpg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ig names of early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d between the Tigris &amp; Euphrates Rivers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ertile Cr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://www.projetoockham.org/figuras/astrologia/mesopotamia.jpg"/>
          <p:cNvPicPr/>
          <p:nvPr/>
        </p:nvPicPr>
        <p:blipFill>
          <a:blip r:embed="rId1"/>
          <a:stretch/>
        </p:blipFill>
        <p:spPr>
          <a:xfrm>
            <a:off x="1981080" y="3132000"/>
            <a:ext cx="52578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ig names of early civilization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 provided excellent farm land &amp; easy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ivilizations developed in this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er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theistic – built ziggur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neiform – wedge shaped writing in c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yr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ylonians -Hammurabi’s Code of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tites – mined iron ore, made plows, wea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dians – coined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esopotam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http://www.colorado.edu/geography/courses/geog_1982_s05/mesopotamia.jpg"/>
          <p:cNvPicPr/>
          <p:nvPr/>
        </p:nvPicPr>
        <p:blipFill>
          <a:blip r:embed="rId1"/>
          <a:stretch/>
        </p:blipFill>
        <p:spPr>
          <a:xfrm>
            <a:off x="2057400" y="1600200"/>
            <a:ext cx="59245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ther River Valley Civiliza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– river valleys of the Huang He (Yellow River), and the Yangz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themsel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dle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language – 2000 BC – pictographs &amp; ide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ical Civilizat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e of Heaven &amp; the dynastic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, Zhou, Shi, Qin, Ha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ccomplishments &amp;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tronomy &amp; cale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lk &amp; porce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vil Servi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, wheelbarrow, rudder for ships, herbal remed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15:34:31Z</dcterms:created>
  <dc:creator>Susan Vanderpool</dc:creator>
  <dc:description/>
  <dc:language>en-US</dc:language>
  <cp:lastModifiedBy>Administrator</cp:lastModifiedBy>
  <dcterms:modified xsi:type="dcterms:W3CDTF">2013-06-03T13:31:54Z</dcterms:modified>
  <cp:revision>18</cp:revision>
  <dc:subject/>
  <dc:title>Global History &amp; Geography Review – Unit 1  Ancient Civilizations &amp; Religions</dc:title>
</cp:coreProperties>
</file>